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45D8-0C7F-46EE-99E2-8A97B3A67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22F-E5C9-4A58-B366-CAD30A2C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0E8-3787-4453-88A4-36159562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6126-2691-40C1-ADBD-91688671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9F59-42CA-41E4-B6CB-7B69A90D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0D62-68B0-4B7C-9752-DEB43457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DE0-A5AE-444D-A1BD-9273E854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8793-E2F6-46DA-A2EC-B0AD4726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39A-E6A2-4A7D-8B43-68F7EBDF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5B4-3F3C-4FD6-B386-E5B95E49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988-F389-4BB1-9FA1-D0785864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B0D-9522-48FE-96D4-ABA69B3A9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98B-553E-496B-83FC-5F1447EF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B6B-A41C-43A6-9AEF-DB6F69BB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08E7-E7EF-43A7-99C6-BA0B6771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D2D5-9DC5-4809-B428-41D6990B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622-7587-4226-B7CF-1D579E51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752-84A4-4839-B1B0-15232A1B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0EF7-EAF4-4A67-B57A-DEA5FB3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EAE8-C826-4B6F-8D13-EC3C1FD9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268D-631F-47B8-8EA8-54EBE7DF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67874-F9DB-4E8A-B0DE-809FD51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505D7-DD40-46AD-81B7-8DA08A6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CB43-1DE0-403F-84DE-B6C29B8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A8B88-61E7-4C79-AB48-2BFEA88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BD9B4-9792-4BD0-A586-8E39FDC6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1A16-7234-4A12-9769-A63360FB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81B6B-A234-4FEB-A49A-442A37E4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5E3-D74C-46D8-9AB1-E252EACB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E7E44-8B5E-4368-8E27-1E9F0EAD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49C57-9AD6-42EC-A37B-7AEAED1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4A56-F5F5-42C3-97CA-65DB019A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F3D4-6F2F-4BD4-88E9-EA3F25E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7F05A-E7AB-484C-9F5F-53E58EC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A5105-6A96-421E-AAB0-98EA3A0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96C73-25DA-4F32-8C55-2AB5EC9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5794A-BAE3-4C72-9D8F-ACC17C8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897FC-8552-48BE-ADD3-372AF64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ECB6C-A5C7-4E8A-AB46-847BD021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01A-6B86-46AB-AED5-991E3E5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813A5-07B3-4365-9EC1-4E5D480E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406F-2102-44BB-9F10-2887CE1A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F772-30D8-44C7-9AFF-8DC966BB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C3908-CBD6-4ED3-8831-CC45C72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7E19-DEBC-4749-8892-E3124BD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22A46-E56F-4577-B946-0D991563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6B7C-D994-42C5-8F6F-BE8A3E3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CB7D-F25C-41E1-9535-5215947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AA4B4-8756-45DB-8A7A-DBD1BAF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73ED0-2E0B-40D2-A4D5-B362AE1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8634-D15F-4092-B198-AC0C1A9E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25739-7923-4A99-88C4-DD02C9D4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6657F-270E-4FF0-B066-24E3853F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9015-CD70-49B1-8344-DC70C5DD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B4F3E-D7A9-4F32-B0E3-7F8A6883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0F319-5762-469C-988E-633F58D0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B8653-D89D-48C1-BF5D-BE2C793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6D2E5-3690-4DE9-9F3F-94F4487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F07E6-AEFD-4067-97A3-CC45492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21E42-5849-46AB-BA80-1029AAA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134B6-79B6-4050-BAB4-5AE862D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637-1811-416F-8F93-3D37C04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84888-6C34-4595-80C4-2B4583D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FDAC7-BDDF-43A2-A0AF-C0AF32F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9DAE0-A43F-4584-9746-2951BAD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AE87D-2188-46DF-A38A-01FB6FDA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137F-1A87-4EB4-992B-DAB5CAC4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95A-9F09-47B5-B7F5-09F632E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AEFD-CF05-44E7-A6D0-9772A172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9B6-1D88-4CD5-82A6-74D350B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96D-9EAA-4122-8386-1BABECD8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548-576A-4780-B9D9-C5D1E35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01B-CEFB-4173-81B1-0CD1E38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F17D-41B4-4908-97AD-AA33748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FC0F-5FE8-48BA-A34C-C28370D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94E-DB32-4DFC-987D-52A09B4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BF5-BE0B-49A6-8B36-226EE05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B505-E6EF-4A95-9B02-E719A90C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D013-DEDB-40D9-A2ED-34137C23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E1E4-A2A0-4B7E-BD8A-2591777E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5393-4BBB-4D9A-B073-DFE460B6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6C03-5D1B-4589-8650-46198DA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5D81-ACB0-4632-BFCD-22CBCA2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402-6878-4D27-90E3-9C911B7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28AE-6E9A-4771-B375-A5F553A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20B4-3211-4020-A0F7-7F0C3F3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C180-5993-4B07-B37C-2B6A9385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A78C-F7CC-40EB-B7A2-3BA73829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7F01-ABBA-44E9-B288-394F316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FF72-291A-4F2B-AAA0-AB0467E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B1BD-6F6C-4E3A-A3B7-4A7C38E3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8203-DBB6-404A-8E4F-2F2BEAA3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E6EB-501D-4E84-9C86-D213D19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2D8D-5BD3-4875-8BB9-667E7A1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CDF-6F54-446C-8307-D18D40C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D875-0429-4365-8D70-C75D43C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6F63-33BE-4CC6-A696-1E943147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117B-7811-4D12-A09B-C32B0AB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F9B8-123C-439D-870E-104A739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D610-76CE-4A1A-92B8-856350F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99A6-4EA8-447A-8AB5-EA82F21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2BF4-10A8-4BB1-98E3-07650CC7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6715-DD8E-4BDD-AD06-6DE1F5F1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937B-6122-44A7-A2C6-F3A3C0EE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6DCA-6BBC-46E1-8FF5-BF66DE6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04F-53B0-4609-873E-72BF4CD7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7779-3533-47CD-9275-F819A6A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5FBE-3827-45BB-8297-D4661E9E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70155-28D2-4548-850F-593CD45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6E14-5D02-45BA-A1DD-D9A0E45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49AB1-EB0A-4209-961E-05114B08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1E41-4919-4CEA-A2DD-4418A5E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4061-306C-4A93-92AF-8094E02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249C-BB55-4474-8EEB-FA82D04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54D5-74DA-4BD0-AA62-EFF87B5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9364-93DC-4304-B3C4-DD23C8FC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088-192F-42BF-B462-2C48DF5D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CE99-3EAF-4ACA-BB2D-B7F04A8B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BF3B-65EA-49B8-BEE8-DBAF83A7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3EE5-2F11-4F63-BFB4-564F9B96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BAFE-1A00-4EA4-8778-DF8DB75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7DDC-872C-4C8D-A80C-178ED70E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0589E-30DA-4BCA-B720-E116EA14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84B4-3D89-4CA0-87FD-33C23424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D5CE-BB1D-442B-9D97-04F565A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32F5-A366-4063-A9B7-1919596B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690C-8793-4FD3-ACA4-40C82F2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6F6-8ADD-483F-9CA5-9EEDA05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5F00-2D76-4988-AC76-DD5173E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A30B9-BF32-460D-B95B-FCFD5F7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362AD-2440-40A9-9535-71150769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54F7-A998-4996-9620-8CE000FB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7CA81-864F-40DA-9E36-F1AC750A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29DE-CDEC-468A-8D43-F6CC0A72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08D5-8A55-4369-B8EB-B80DB355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9AE66-7F70-41AB-880C-2FF9037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3F9F-D6D2-4765-AB60-CC8A611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82B2-2982-45B7-9F8C-399F36D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ECA-97A0-4145-81E3-8144885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F6628-32C2-4FFE-812A-251984E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339D-BE17-47FF-BDBB-4E7D14B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A876-D8FA-4412-BD6A-B7EB8BA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6B46-BFEB-4A45-9648-B592CD46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1E02-0136-47CD-8E5B-2A16CCE6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AB847-3258-4D40-B995-C2640E67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C94C-241A-4F33-921B-0DBC193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F3F1-5F81-4D22-A0BB-DB026A9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CD80C-E371-438A-8ADB-F9A36AF9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9E05-9167-45FB-9663-AFB35A3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BB6-88BB-4BB2-A0A9-A482926C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94DBA-90B8-4D2B-B24F-6B47C25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A21B-4C4D-432E-A590-7BFCA96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F6A02-5E29-4F67-BB8F-EB0409B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D6BCB-E323-4B8A-9F74-16001C6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575E-CC4D-4C1C-8418-EFB99AA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EE31-AF24-4F2A-973D-81F3E789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85E5-E99E-4F10-AB9A-A749D52F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F471-BB12-40E3-902C-B1B45C38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4D50-2D52-41B0-AA5C-B55798BF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8BBD1-E4DB-4751-AFCC-D530ADE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C231-F8EE-4343-8E1A-ECB797091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0D93-8BA8-4ACD-8D6B-97371151B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139-7970-41FC-8C3B-DD3BEEFA5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E82-8A61-4F49-8692-41D62809C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C59-1AC8-4FB9-958E-8475A263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6C53-B075-455A-83BD-65E050A01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1B99-AD65-4A03-9CFB-FA75F3E03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0D1-9E21-4AB8-9329-C1387DAD9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31AA-0DED-4164-8FC6-D526DBF2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797-A9DB-4BBD-9E64-8C2A5BD91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896-FB32-4127-85EB-F6090C58C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B43-8304-4F2D-9515-E2B66CE97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pHSVZJhxJQ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ball Trip 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36232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or Ba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 Bl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isa Gar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e L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son Schwar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tt Z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Crystal 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316240" y="1523880"/>
            <a:ext cx="6827760" cy="2311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6139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hree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56293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wo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2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6" descr=""/>
          <p:cNvPicPr/>
          <p:nvPr/>
        </p:nvPicPr>
        <p:blipFill>
          <a:blip r:embed="rId1"/>
          <a:stretch/>
        </p:blipFill>
        <p:spPr>
          <a:xfrm>
            <a:off x="2776680" y="2786040"/>
            <a:ext cx="5833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One Met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320560" y="1600200"/>
            <a:ext cx="682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ke will stay under his $7k budg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2 nights in hotels + $1500 NYC expe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59673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437920" y="159984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Jake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--- 2 Game Solu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C:\Documents and Settings\Brett Zager\Local Settings\Temporary Internet Files\Content.Outlook\56MRLKON\DSC01638.JPG"/>
          <p:cNvPicPr/>
          <p:nvPr/>
        </p:nvPicPr>
        <p:blipFill>
          <a:blip r:embed="rId1"/>
          <a:stretch/>
        </p:blipFill>
        <p:spPr>
          <a:xfrm>
            <a:off x="32004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7524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planning a two-month road trip to see the 10 US Baseball stadiums he has not yet visi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a die hard Mets fan, Jake would love to see them play when/where possi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afraid of flying and has subletted his NYC apartment (no going back!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plans to spend his $5000 graduation present and $2000 from his own pocket on the tri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2093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roke the project into two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driving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cost of the trip based on Jakes preferences/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362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Function:  Find the best driving route based on lowest total mileage to go to all 10 stadi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 Variables: travel 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21007" r="45972" b="41315"/>
          <a:stretch/>
        </p:blipFill>
        <p:spPr>
          <a:xfrm>
            <a:off x="2514600" y="2438280"/>
            <a:ext cx="646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56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each stadium exactly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going ba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dded in constraints to avoid ‘loop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so used the “large” numbers for plugs as distance between each stadium and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81080" y="13716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,632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2590920" y="2438280"/>
            <a:ext cx="6294240" cy="4114800"/>
            <a:chOff x="2590920" y="2438280"/>
            <a:chExt cx="6294240" cy="4114800"/>
          </a:xfrm>
        </p:grpSpPr>
        <p:pic>
          <p:nvPicPr>
            <p:cNvPr id="526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2438280"/>
              <a:ext cx="61333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5"/>
            <p:cNvSpPr/>
            <p:nvPr/>
          </p:nvSpPr>
          <p:spPr>
            <a:xfrm>
              <a:off x="8077320" y="3774960"/>
              <a:ext cx="8078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Yank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6"/>
            <p:cNvSpPr/>
            <p:nvPr/>
          </p:nvSpPr>
          <p:spPr>
            <a:xfrm>
              <a:off x="7407360" y="504180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r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7"/>
            <p:cNvSpPr/>
            <p:nvPr/>
          </p:nvSpPr>
          <p:spPr>
            <a:xfrm>
              <a:off x="7539120" y="6097680"/>
              <a:ext cx="8427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Mar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8"/>
            <p:cNvSpPr/>
            <p:nvPr/>
          </p:nvSpPr>
          <p:spPr>
            <a:xfrm>
              <a:off x="6040440" y="398592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ardin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9"/>
            <p:cNvSpPr/>
            <p:nvPr/>
          </p:nvSpPr>
          <p:spPr>
            <a:xfrm>
              <a:off x="3048120" y="4549680"/>
              <a:ext cx="1363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amondba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10"/>
            <p:cNvSpPr/>
            <p:nvPr/>
          </p:nvSpPr>
          <p:spPr>
            <a:xfrm>
              <a:off x="3567240" y="504180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ck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11"/>
            <p:cNvSpPr/>
            <p:nvPr/>
          </p:nvSpPr>
          <p:spPr>
            <a:xfrm>
              <a:off x="7081920" y="5533920"/>
              <a:ext cx="715680" cy="52020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ampa B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2"/>
            <p:cNvSpPr/>
            <p:nvPr/>
          </p:nvSpPr>
          <p:spPr>
            <a:xfrm>
              <a:off x="6934320" y="3071520"/>
              <a:ext cx="10112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lue J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13"/>
            <p:cNvSpPr/>
            <p:nvPr/>
          </p:nvSpPr>
          <p:spPr>
            <a:xfrm>
              <a:off x="5259240" y="4338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y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4"/>
            <p:cNvSpPr/>
            <p:nvPr/>
          </p:nvSpPr>
          <p:spPr>
            <a:xfrm>
              <a:off x="5194440" y="3141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w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Straight Arrow Connector 15"/>
            <p:cNvCxnSpPr>
              <a:stCxn id="529" idx="1"/>
              <a:endCxn id="533" idx="2"/>
            </p:cNvCxnSpPr>
            <p:nvPr/>
          </p:nvCxnSpPr>
          <p:spPr>
            <a:xfrm flipH="1" flipV="1">
              <a:off x="7440120" y="6017760"/>
              <a:ext cx="99000" cy="234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8" name="Straight Arrow Connector 16"/>
            <p:cNvCxnSpPr>
              <a:stCxn id="527" idx="3"/>
              <a:endCxn id="529" idx="0"/>
            </p:cNvCxnSpPr>
            <p:nvPr/>
          </p:nvCxnSpPr>
          <p:spPr>
            <a:xfrm flipH="1">
              <a:off x="7959600" y="3929040"/>
              <a:ext cx="925920" cy="216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9" name="Straight Arrow Connector 17"/>
            <p:cNvCxnSpPr>
              <a:stCxn id="533" idx="0"/>
              <a:endCxn id="528" idx="2"/>
            </p:cNvCxnSpPr>
            <p:nvPr/>
          </p:nvCxnSpPr>
          <p:spPr>
            <a:xfrm flipV="1">
              <a:off x="7439040" y="5325120"/>
              <a:ext cx="326160" cy="208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0" name="Straight Arrow Connector 18"/>
            <p:cNvCxnSpPr>
              <a:stCxn id="528" idx="1"/>
              <a:endCxn id="531" idx="3"/>
            </p:cNvCxnSpPr>
            <p:nvPr/>
          </p:nvCxnSpPr>
          <p:spPr>
            <a:xfrm flipH="1" flipV="1">
              <a:off x="4411080" y="4703040"/>
              <a:ext cx="2996280" cy="479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19"/>
            <p:cNvCxnSpPr>
              <a:stCxn id="531" idx="2"/>
              <a:endCxn id="532" idx="0"/>
            </p:cNvCxnSpPr>
            <p:nvPr/>
          </p:nvCxnSpPr>
          <p:spPr>
            <a:xfrm>
              <a:off x="3729600" y="4857480"/>
              <a:ext cx="292680" cy="184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2" name="Straight Arrow Connector 20"/>
            <p:cNvCxnSpPr>
              <a:stCxn id="532" idx="3"/>
              <a:endCxn id="536" idx="1"/>
            </p:cNvCxnSpPr>
            <p:nvPr/>
          </p:nvCxnSpPr>
          <p:spPr>
            <a:xfrm flipV="1">
              <a:off x="4478400" y="3283920"/>
              <a:ext cx="716400" cy="189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21"/>
            <p:cNvCxnSpPr>
              <a:stCxn id="536" idx="2"/>
              <a:endCxn id="535" idx="0"/>
            </p:cNvCxnSpPr>
            <p:nvPr/>
          </p:nvCxnSpPr>
          <p:spPr>
            <a:xfrm>
              <a:off x="5551560" y="3425400"/>
              <a:ext cx="65520" cy="91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4" name="Straight Arrow Connector 22"/>
            <p:cNvCxnSpPr>
              <a:stCxn id="535" idx="3"/>
              <a:endCxn id="530" idx="2"/>
            </p:cNvCxnSpPr>
            <p:nvPr/>
          </p:nvCxnSpPr>
          <p:spPr>
            <a:xfrm flipV="1">
              <a:off x="5975280" y="4269960"/>
              <a:ext cx="521280" cy="21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5" name="Straight Arrow Connector 23"/>
            <p:cNvCxnSpPr>
              <a:stCxn id="530" idx="0"/>
              <a:endCxn id="534" idx="2"/>
            </p:cNvCxnSpPr>
            <p:nvPr/>
          </p:nvCxnSpPr>
          <p:spPr>
            <a:xfrm flipV="1">
              <a:off x="6495120" y="3379320"/>
              <a:ext cx="943560" cy="60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6" name="Straight Arrow Connector 24"/>
            <p:cNvCxnSpPr>
              <a:stCxn id="534" idx="3"/>
              <a:endCxn id="527" idx="0"/>
            </p:cNvCxnSpPr>
            <p:nvPr/>
          </p:nvCxnSpPr>
          <p:spPr>
            <a:xfrm>
              <a:off x="7945560" y="3225240"/>
              <a:ext cx="535680" cy="54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Get a good estimate for the cost of the trip so Jake can budget his $7000 according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ing back to Jake’s love for the Mets, we factored in a $500 utility for each Mets g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e also enjoys cold beer and hot dogs while at the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82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dom Variab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s costs – Based on a normal distribution of weekly national prices the p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tel costs – Based on individual distributions for each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cost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$50 for each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ecast Ite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3:27:25Z</dcterms:created>
  <dc:creator>limor barack</dc:creator>
  <dc:description/>
  <dc:language>en-US</dc:language>
  <cp:lastModifiedBy>Brett Zager</cp:lastModifiedBy>
  <dcterms:modified xsi:type="dcterms:W3CDTF">2009-04-27T14:07:55Z</dcterms:modified>
  <cp:revision>17</cp:revision>
  <dc:subject/>
  <dc:title>Slide 1</dc:title>
</cp:coreProperties>
</file>